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02D-1D95-441D-BF18-63B9A59E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A2F-E072-45E5-BFB4-7731FB0E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ED5-1975-401B-82D7-A49881E3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653-77B1-4D84-8A8D-BC12C868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936-C50F-4FFC-A4C3-FFD71839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668-B806-4BCB-AB78-E5501383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A46-2DDE-4674-8755-135AA179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FF1-461D-442D-A710-696496B3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B00-EB3A-449D-8DC9-F3EACEBB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519-C4A5-4702-AC7D-0B37BCFA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3E9-51E2-4071-866D-A36B278D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71D-4CE9-464B-A18D-D2F40774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4d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478B-8C20-4EE9-A3F5-79D62BF830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46/47 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9140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h. 46) How do oogenesis and spermatogenesis dif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h. 46) How do these hormones affect the menstrual cyc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87720" indent="-5036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87720" indent="-5036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87720" indent="-5036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r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87720" indent="-5036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ester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h. 47) Describe the process of fertil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3" descr="_x001b_47_12FrogGastrulation_U.jpg                                    0002A287&#10;CS1-Vol.07                     BD7D9C21:"/>
          <p:cNvPicPr/>
          <p:nvPr/>
        </p:nvPicPr>
        <p:blipFill>
          <a:blip r:embed="rId1"/>
          <a:stretch/>
        </p:blipFill>
        <p:spPr>
          <a:xfrm>
            <a:off x="2449440" y="227160"/>
            <a:ext cx="6389640" cy="6402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2846520" y="5935680"/>
            <a:ext cx="10173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uture ect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059280" y="5668920"/>
            <a:ext cx="3092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843280" y="6116760"/>
            <a:ext cx="10843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uture mes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846520" y="6297480"/>
            <a:ext cx="10173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uture end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927920" y="2790720"/>
            <a:ext cx="7826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chente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6045120" y="4908600"/>
            <a:ext cx="665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lastoco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mn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745400" y="4638600"/>
            <a:ext cx="5857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ct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8"/>
          <p:cNvSpPr/>
          <p:nvPr/>
        </p:nvSpPr>
        <p:spPr>
          <a:xfrm>
            <a:off x="7904160" y="4838760"/>
            <a:ext cx="5857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es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9"/>
          <p:cNvSpPr/>
          <p:nvPr/>
        </p:nvSpPr>
        <p:spPr>
          <a:xfrm>
            <a:off x="8012160" y="4997520"/>
            <a:ext cx="5857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nd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0"/>
          <p:cNvSpPr/>
          <p:nvPr/>
        </p:nvSpPr>
        <p:spPr>
          <a:xfrm>
            <a:off x="6091200" y="6162840"/>
            <a:ext cx="58572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olk plu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1"/>
          <p:cNvSpPr/>
          <p:nvPr/>
        </p:nvSpPr>
        <p:spPr>
          <a:xfrm>
            <a:off x="5405400" y="6165720"/>
            <a:ext cx="5857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olk plu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2"/>
          <p:cNvSpPr/>
          <p:nvPr/>
        </p:nvSpPr>
        <p:spPr>
          <a:xfrm>
            <a:off x="7088040" y="6257880"/>
            <a:ext cx="5860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Gastr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3"/>
          <p:cNvSpPr/>
          <p:nvPr/>
        </p:nvSpPr>
        <p:spPr>
          <a:xfrm>
            <a:off x="5156280" y="6114960"/>
            <a:ext cx="20952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4"/>
          <p:cNvSpPr/>
          <p:nvPr/>
        </p:nvSpPr>
        <p:spPr>
          <a:xfrm flipV="1">
            <a:off x="6689880" y="6130440"/>
            <a:ext cx="36180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5"/>
          <p:cNvSpPr/>
          <p:nvPr/>
        </p:nvSpPr>
        <p:spPr>
          <a:xfrm>
            <a:off x="6715080" y="4994280"/>
            <a:ext cx="181080" cy="30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6"/>
          <p:cNvSpPr/>
          <p:nvPr/>
        </p:nvSpPr>
        <p:spPr>
          <a:xfrm flipV="1">
            <a:off x="7467480" y="4708080"/>
            <a:ext cx="25740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7"/>
          <p:cNvSpPr/>
          <p:nvPr/>
        </p:nvSpPr>
        <p:spPr>
          <a:xfrm flipV="1">
            <a:off x="7505640" y="4898520"/>
            <a:ext cx="37800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8"/>
          <p:cNvSpPr/>
          <p:nvPr/>
        </p:nvSpPr>
        <p:spPr>
          <a:xfrm flipV="1">
            <a:off x="7502400" y="5073480"/>
            <a:ext cx="492120" cy="34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9"/>
          <p:cNvSpPr/>
          <p:nvPr/>
        </p:nvSpPr>
        <p:spPr>
          <a:xfrm>
            <a:off x="6013440" y="2660760"/>
            <a:ext cx="662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lastoco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hr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0"/>
          <p:cNvSpPr/>
          <p:nvPr/>
        </p:nvSpPr>
        <p:spPr>
          <a:xfrm>
            <a:off x="6676920" y="2730600"/>
            <a:ext cx="30816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 flipV="1">
            <a:off x="7350120" y="2854440"/>
            <a:ext cx="539640" cy="39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2"/>
          <p:cNvSpPr/>
          <p:nvPr/>
        </p:nvSpPr>
        <p:spPr>
          <a:xfrm>
            <a:off x="6060960" y="839880"/>
            <a:ext cx="658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lastoco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3"/>
          <p:cNvSpPr/>
          <p:nvPr/>
        </p:nvSpPr>
        <p:spPr>
          <a:xfrm>
            <a:off x="8029440" y="1598760"/>
            <a:ext cx="6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ors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ip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lastop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4"/>
          <p:cNvSpPr/>
          <p:nvPr/>
        </p:nvSpPr>
        <p:spPr>
          <a:xfrm>
            <a:off x="6727680" y="334800"/>
            <a:ext cx="108108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ROSS S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5"/>
          <p:cNvSpPr/>
          <p:nvPr/>
        </p:nvSpPr>
        <p:spPr>
          <a:xfrm>
            <a:off x="4975200" y="547560"/>
            <a:ext cx="757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nimal p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6"/>
          <p:cNvSpPr/>
          <p:nvPr/>
        </p:nvSpPr>
        <p:spPr>
          <a:xfrm>
            <a:off x="5902200" y="1897200"/>
            <a:ext cx="8049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orsal l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f blastop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7"/>
          <p:cNvSpPr/>
          <p:nvPr/>
        </p:nvSpPr>
        <p:spPr>
          <a:xfrm>
            <a:off x="4927680" y="2109960"/>
            <a:ext cx="7603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egetal p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8"/>
          <p:cNvSpPr/>
          <p:nvPr/>
        </p:nvSpPr>
        <p:spPr>
          <a:xfrm>
            <a:off x="7093080" y="2131920"/>
            <a:ext cx="658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last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9"/>
          <p:cNvSpPr/>
          <p:nvPr/>
        </p:nvSpPr>
        <p:spPr>
          <a:xfrm>
            <a:off x="4753080" y="338040"/>
            <a:ext cx="108108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URFACE 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0"/>
          <p:cNvSpPr/>
          <p:nvPr/>
        </p:nvSpPr>
        <p:spPr>
          <a:xfrm>
            <a:off x="5629320" y="1647720"/>
            <a:ext cx="244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1"/>
          <p:cNvSpPr/>
          <p:nvPr/>
        </p:nvSpPr>
        <p:spPr>
          <a:xfrm>
            <a:off x="6737400" y="905040"/>
            <a:ext cx="361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2"/>
          <p:cNvSpPr/>
          <p:nvPr/>
        </p:nvSpPr>
        <p:spPr>
          <a:xfrm>
            <a:off x="7788240" y="1622520"/>
            <a:ext cx="212760" cy="4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29779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trulation in a frog embry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0" descr="_x001c_47_13ChickGastrulation_U.jpg                                   0002A287&#10;CS1-Vol.07                     BD7D9C21:"/>
          <p:cNvPicPr/>
          <p:nvPr/>
        </p:nvPicPr>
        <p:blipFill>
          <a:blip r:embed="rId1"/>
          <a:stretch/>
        </p:blipFill>
        <p:spPr>
          <a:xfrm>
            <a:off x="303120" y="1352520"/>
            <a:ext cx="8535960" cy="4670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757080" y="2778120"/>
            <a:ext cx="1190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ct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509920" y="1981080"/>
            <a:ext cx="958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pi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1903320" y="4606920"/>
            <a:ext cx="1400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g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mesod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>
            <a:off x="1822320" y="3227400"/>
            <a:ext cx="31752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 flipH="1">
            <a:off x="2514240" y="3697200"/>
            <a:ext cx="35892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 flipV="1">
            <a:off x="2517840" y="3678120"/>
            <a:ext cx="79704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4094280" y="5378400"/>
            <a:ext cx="726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176880" y="4844880"/>
            <a:ext cx="115272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yp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2"/>
          <p:cNvSpPr/>
          <p:nvPr/>
        </p:nvSpPr>
        <p:spPr>
          <a:xfrm>
            <a:off x="4776840" y="4543560"/>
            <a:ext cx="1203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3"/>
          <p:cNvSpPr/>
          <p:nvPr/>
        </p:nvSpPr>
        <p:spPr>
          <a:xfrm flipV="1">
            <a:off x="5311800" y="408420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4"/>
          <p:cNvSpPr/>
          <p:nvPr/>
        </p:nvSpPr>
        <p:spPr>
          <a:xfrm>
            <a:off x="6673680" y="4402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6062760" y="2736720"/>
            <a:ext cx="1063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6"/>
          <p:cNvSpPr/>
          <p:nvPr/>
        </p:nvSpPr>
        <p:spPr>
          <a:xfrm>
            <a:off x="5003640" y="2884320"/>
            <a:ext cx="101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8"/>
          <p:cNvSpPr/>
          <p:nvPr/>
        </p:nvSpPr>
        <p:spPr>
          <a:xfrm flipV="1">
            <a:off x="3073320" y="2246040"/>
            <a:ext cx="108000" cy="8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9"/>
          <p:cNvSpPr/>
          <p:nvPr/>
        </p:nvSpPr>
        <p:spPr>
          <a:xfrm>
            <a:off x="3181320" y="2243160"/>
            <a:ext cx="765360" cy="9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strulation in a chick embry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812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rganogen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velopment of 3 germ layers into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ocho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tiff dorsal skeletal rod, forms from mesod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ural pla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eural tub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ain and spinal 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ur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forms hollow dorsal nerve ch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i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blocks of mesoderm arranged along notochord; sign of seg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ontent Placeholder 6" descr="47_12_HumEmbryonDevelop-L.jpg"/>
          <p:cNvPicPr/>
          <p:nvPr/>
        </p:nvPicPr>
        <p:blipFill>
          <a:blip r:embed="rId1"/>
          <a:stretch/>
        </p:blipFill>
        <p:spPr>
          <a:xfrm>
            <a:off x="0" y="0"/>
            <a:ext cx="67626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71840" y="198108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Early human embryonic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1" descr="_x001f_47_14-FrogOrganogenesis_CNL.jpg                                0002A287&#10;CS1-Vol.07                     BD7D9C21:"/>
          <p:cNvPicPr/>
          <p:nvPr/>
        </p:nvPicPr>
        <p:blipFill>
          <a:blip r:embed="rId1"/>
          <a:stretch/>
        </p:blipFill>
        <p:spPr>
          <a:xfrm>
            <a:off x="471600" y="227160"/>
            <a:ext cx="8200800" cy="6402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046160" y="361800"/>
            <a:ext cx="7779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fo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062080" y="2695680"/>
            <a:ext cx="406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982800" y="2333520"/>
            <a:ext cx="2221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3484440" y="600120"/>
            <a:ext cx="476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2271600" y="2406600"/>
            <a:ext cx="3812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1544760" y="2695680"/>
            <a:ext cx="476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 flipH="1" flipV="1">
            <a:off x="1361880" y="527040"/>
            <a:ext cx="228600" cy="65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1362240" y="527040"/>
            <a:ext cx="2473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5"/>
          <p:cNvSpPr/>
          <p:nvPr/>
        </p:nvSpPr>
        <p:spPr>
          <a:xfrm>
            <a:off x="2158920" y="2403360"/>
            <a:ext cx="6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6"/>
          <p:cNvSpPr/>
          <p:nvPr/>
        </p:nvSpPr>
        <p:spPr>
          <a:xfrm>
            <a:off x="2155680" y="235584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7"/>
          <p:cNvSpPr/>
          <p:nvPr/>
        </p:nvSpPr>
        <p:spPr>
          <a:xfrm>
            <a:off x="2759040" y="235260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1714680" y="2978280"/>
            <a:ext cx="8856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2371680" y="2943360"/>
            <a:ext cx="82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 flipV="1">
            <a:off x="1422360" y="3502080"/>
            <a:ext cx="70164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339920" y="39146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 flipV="1">
            <a:off x="1403280" y="4070160"/>
            <a:ext cx="2574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4"/>
          <p:cNvSpPr/>
          <p:nvPr/>
        </p:nvSpPr>
        <p:spPr>
          <a:xfrm flipV="1">
            <a:off x="1387440" y="4121280"/>
            <a:ext cx="4320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5"/>
          <p:cNvSpPr/>
          <p:nvPr/>
        </p:nvSpPr>
        <p:spPr>
          <a:xfrm flipV="1">
            <a:off x="1552680" y="3835080"/>
            <a:ext cx="48240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754200" y="3629160"/>
            <a:ext cx="6476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otoch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766800" y="4610160"/>
            <a:ext cx="780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chente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915840" y="4921200"/>
            <a:ext cx="14097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plate 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735120" y="4352760"/>
            <a:ext cx="780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nd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731880" y="4095720"/>
            <a:ext cx="780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es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725400" y="3835440"/>
            <a:ext cx="7812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ct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4597560" y="596880"/>
            <a:ext cx="7747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3425760" y="5106960"/>
            <a:ext cx="78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4"/>
          <p:cNvSpPr/>
          <p:nvPr/>
        </p:nvSpPr>
        <p:spPr>
          <a:xfrm>
            <a:off x="3629160" y="5472000"/>
            <a:ext cx="1803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ormation of the neural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3432240" y="4484520"/>
            <a:ext cx="780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cr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4740120" y="4049640"/>
            <a:ext cx="7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uter la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f ect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7"/>
          <p:cNvSpPr/>
          <p:nvPr/>
        </p:nvSpPr>
        <p:spPr>
          <a:xfrm>
            <a:off x="4175280" y="4619520"/>
            <a:ext cx="1332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8"/>
          <p:cNvSpPr/>
          <p:nvPr/>
        </p:nvSpPr>
        <p:spPr>
          <a:xfrm flipV="1">
            <a:off x="4149720" y="5143680"/>
            <a:ext cx="10476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9"/>
          <p:cNvSpPr/>
          <p:nvPr/>
        </p:nvSpPr>
        <p:spPr>
          <a:xfrm flipV="1">
            <a:off x="4638600" y="4346640"/>
            <a:ext cx="127080" cy="27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111640" y="2992320"/>
            <a:ext cx="78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cr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1"/>
          <p:cNvSpPr/>
          <p:nvPr/>
        </p:nvSpPr>
        <p:spPr>
          <a:xfrm flipV="1">
            <a:off x="4343400" y="3098880"/>
            <a:ext cx="74916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2"/>
          <p:cNvSpPr/>
          <p:nvPr/>
        </p:nvSpPr>
        <p:spPr>
          <a:xfrm>
            <a:off x="3746520" y="822240"/>
            <a:ext cx="34272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3"/>
          <p:cNvSpPr/>
          <p:nvPr/>
        </p:nvSpPr>
        <p:spPr>
          <a:xfrm flipV="1">
            <a:off x="4394160" y="752400"/>
            <a:ext cx="5396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7948440" y="2265480"/>
            <a:ext cx="3812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5"/>
          <p:cNvSpPr/>
          <p:nvPr/>
        </p:nvSpPr>
        <p:spPr>
          <a:xfrm>
            <a:off x="7835760" y="2262240"/>
            <a:ext cx="6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6"/>
          <p:cNvSpPr/>
          <p:nvPr/>
        </p:nvSpPr>
        <p:spPr>
          <a:xfrm>
            <a:off x="7832880" y="221472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8435880" y="221148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6148440" y="2665440"/>
            <a:ext cx="6476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otoch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9"/>
          <p:cNvSpPr/>
          <p:nvPr/>
        </p:nvSpPr>
        <p:spPr>
          <a:xfrm>
            <a:off x="6173640" y="4064040"/>
            <a:ext cx="1041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chente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digestive cav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0"/>
          <p:cNvSpPr/>
          <p:nvPr/>
        </p:nvSpPr>
        <p:spPr>
          <a:xfrm>
            <a:off x="6778800" y="2297160"/>
            <a:ext cx="780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1"/>
          <p:cNvSpPr/>
          <p:nvPr/>
        </p:nvSpPr>
        <p:spPr>
          <a:xfrm>
            <a:off x="8169120" y="2671920"/>
            <a:ext cx="4636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r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6249960" y="398520"/>
            <a:ext cx="422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y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3"/>
          <p:cNvSpPr/>
          <p:nvPr/>
        </p:nvSpPr>
        <p:spPr>
          <a:xfrm>
            <a:off x="7062840" y="395280"/>
            <a:ext cx="5173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o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8037360" y="39852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ail b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6192720" y="2192400"/>
            <a:ext cx="422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6"/>
          <p:cNvSpPr/>
          <p:nvPr/>
        </p:nvSpPr>
        <p:spPr>
          <a:xfrm flipH="1" flipV="1">
            <a:off x="6343200" y="561960"/>
            <a:ext cx="12060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7"/>
          <p:cNvSpPr/>
          <p:nvPr/>
        </p:nvSpPr>
        <p:spPr>
          <a:xfrm flipV="1">
            <a:off x="8318520" y="55224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8"/>
          <p:cNvSpPr/>
          <p:nvPr/>
        </p:nvSpPr>
        <p:spPr>
          <a:xfrm flipV="1">
            <a:off x="7064280" y="549360"/>
            <a:ext cx="23832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9"/>
          <p:cNvSpPr/>
          <p:nvPr/>
        </p:nvSpPr>
        <p:spPr>
          <a:xfrm flipH="1">
            <a:off x="7273800" y="549360"/>
            <a:ext cx="288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0"/>
          <p:cNvSpPr/>
          <p:nvPr/>
        </p:nvSpPr>
        <p:spPr>
          <a:xfrm>
            <a:off x="7299360" y="549360"/>
            <a:ext cx="158760" cy="60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1"/>
          <p:cNvSpPr/>
          <p:nvPr/>
        </p:nvSpPr>
        <p:spPr>
          <a:xfrm>
            <a:off x="7137360" y="244476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2"/>
          <p:cNvSpPr/>
          <p:nvPr/>
        </p:nvSpPr>
        <p:spPr>
          <a:xfrm>
            <a:off x="6148440" y="2982960"/>
            <a:ext cx="6476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el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3"/>
          <p:cNvSpPr/>
          <p:nvPr/>
        </p:nvSpPr>
        <p:spPr>
          <a:xfrm>
            <a:off x="8166240" y="3049560"/>
            <a:ext cx="431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om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4"/>
          <p:cNvSpPr/>
          <p:nvPr/>
        </p:nvSpPr>
        <p:spPr>
          <a:xfrm>
            <a:off x="6638760" y="3086280"/>
            <a:ext cx="304920" cy="14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5"/>
          <p:cNvSpPr/>
          <p:nvPr/>
        </p:nvSpPr>
        <p:spPr>
          <a:xfrm>
            <a:off x="6804000" y="2797200"/>
            <a:ext cx="33660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6"/>
          <p:cNvSpPr/>
          <p:nvPr/>
        </p:nvSpPr>
        <p:spPr>
          <a:xfrm flipV="1">
            <a:off x="7219800" y="2743200"/>
            <a:ext cx="92088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7"/>
          <p:cNvSpPr/>
          <p:nvPr/>
        </p:nvSpPr>
        <p:spPr>
          <a:xfrm>
            <a:off x="7315200" y="3130560"/>
            <a:ext cx="82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8"/>
          <p:cNvSpPr/>
          <p:nvPr/>
        </p:nvSpPr>
        <p:spPr>
          <a:xfrm flipV="1">
            <a:off x="6667560" y="3441240"/>
            <a:ext cx="49536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9"/>
          <p:cNvSpPr/>
          <p:nvPr/>
        </p:nvSpPr>
        <p:spPr>
          <a:xfrm>
            <a:off x="6343560" y="4503600"/>
            <a:ext cx="6606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o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943600"/>
            <a:ext cx="8229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ly organogenesis in a frog embry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1"/>
          <p:cNvGrpSpPr/>
          <p:nvPr/>
        </p:nvGrpSpPr>
        <p:grpSpPr>
          <a:xfrm>
            <a:off x="1981080" y="3173400"/>
            <a:ext cx="5256360" cy="3456000"/>
            <a:chOff x="1981080" y="3173400"/>
            <a:chExt cx="5256360" cy="3456000"/>
          </a:xfrm>
        </p:grpSpPr>
        <p:pic>
          <p:nvPicPr>
            <p:cNvPr id="181" name="Picture 67" descr="_x001f_47_17ExtraembryonMembrane_U.jpg                                0002A287&#10;CS1-Vol.07                     BD7D9C21:"/>
            <p:cNvPicPr/>
            <p:nvPr/>
          </p:nvPicPr>
          <p:blipFill>
            <a:blip r:embed="rId1"/>
            <a:stretch/>
          </p:blipFill>
          <p:spPr>
            <a:xfrm>
              <a:off x="1981080" y="3173400"/>
              <a:ext cx="525636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3"/>
            <p:cNvSpPr/>
            <p:nvPr/>
          </p:nvSpPr>
          <p:spPr>
            <a:xfrm>
              <a:off x="2526480" y="380736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mbr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46"/>
            <p:cNvSpPr/>
            <p:nvPr/>
          </p:nvSpPr>
          <p:spPr>
            <a:xfrm>
              <a:off x="2336760" y="4151880"/>
              <a:ext cx="6235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nio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a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wi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nio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lu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655960" y="3188520"/>
              <a:ext cx="682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llanto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2"/>
            <p:cNvSpPr/>
            <p:nvPr/>
          </p:nvSpPr>
          <p:spPr>
            <a:xfrm>
              <a:off x="3330000" y="318024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n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3"/>
            <p:cNvSpPr/>
            <p:nvPr/>
          </p:nvSpPr>
          <p:spPr>
            <a:xfrm>
              <a:off x="6400800" y="415332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lbu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4"/>
            <p:cNvSpPr/>
            <p:nvPr/>
          </p:nvSpPr>
          <p:spPr>
            <a:xfrm>
              <a:off x="6225840" y="5684040"/>
              <a:ext cx="7459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Yo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nutrien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55"/>
            <p:cNvSpPr/>
            <p:nvPr/>
          </p:nvSpPr>
          <p:spPr>
            <a:xfrm>
              <a:off x="5615640" y="639864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Yolk s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6"/>
            <p:cNvSpPr/>
            <p:nvPr/>
          </p:nvSpPr>
          <p:spPr>
            <a:xfrm>
              <a:off x="2537280" y="639936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hor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7"/>
            <p:cNvSpPr/>
            <p:nvPr/>
          </p:nvSpPr>
          <p:spPr>
            <a:xfrm>
              <a:off x="2469600" y="541044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8"/>
            <p:cNvSpPr/>
            <p:nvPr/>
          </p:nvSpPr>
          <p:spPr>
            <a:xfrm>
              <a:off x="2960640" y="4231080"/>
              <a:ext cx="11934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9"/>
            <p:cNvSpPr/>
            <p:nvPr/>
          </p:nvSpPr>
          <p:spPr>
            <a:xfrm>
              <a:off x="3588120" y="3327480"/>
              <a:ext cx="735120" cy="75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0"/>
            <p:cNvSpPr/>
            <p:nvPr/>
          </p:nvSpPr>
          <p:spPr>
            <a:xfrm>
              <a:off x="3080880" y="3900960"/>
              <a:ext cx="117684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61"/>
            <p:cNvSpPr/>
            <p:nvPr/>
          </p:nvSpPr>
          <p:spPr>
            <a:xfrm flipH="1">
              <a:off x="5599080" y="3332160"/>
              <a:ext cx="314640" cy="9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2"/>
            <p:cNvSpPr/>
            <p:nvPr/>
          </p:nvSpPr>
          <p:spPr>
            <a:xfrm flipV="1">
              <a:off x="5911920" y="4216320"/>
              <a:ext cx="451440" cy="11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63"/>
            <p:cNvSpPr/>
            <p:nvPr/>
          </p:nvSpPr>
          <p:spPr>
            <a:xfrm>
              <a:off x="5274360" y="5140800"/>
              <a:ext cx="907200" cy="60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64"/>
            <p:cNvSpPr/>
            <p:nvPr/>
          </p:nvSpPr>
          <p:spPr>
            <a:xfrm>
              <a:off x="4889520" y="5444280"/>
              <a:ext cx="854280" cy="9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5"/>
            <p:cNvSpPr/>
            <p:nvPr/>
          </p:nvSpPr>
          <p:spPr>
            <a:xfrm flipV="1">
              <a:off x="2855880" y="5040720"/>
              <a:ext cx="985320" cy="135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6"/>
            <p:cNvSpPr/>
            <p:nvPr/>
          </p:nvSpPr>
          <p:spPr>
            <a:xfrm flipV="1">
              <a:off x="2834280" y="5258520"/>
              <a:ext cx="4046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Amniotic embryos (reptiles, birds, mamm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762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in fluid-filled sac w/in a shell or uter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Amn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fluid protects embryo – prevent dehydration, cushions mechanical sho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Yol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: nutrients in eg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mmalian eg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little stored fo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s of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Cytoplasmic determina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chemical signals such as mRNAs and transcription factors, influence pattern of cleav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nduc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interaction among cells that influences their fate, cause changes in gene exp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otipotent cell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capable of developing into all the different cell ty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ells of mammalian embryos are totipotent until the 16-cell 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4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imal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47_01HumanEmbryo7wks-L.jpg"/>
          <p:cNvPicPr/>
          <p:nvPr/>
        </p:nvPicPr>
        <p:blipFill>
          <a:blip r:embed="rId1"/>
          <a:stretch/>
        </p:blipFill>
        <p:spPr>
          <a:xfrm>
            <a:off x="1447920" y="2057400"/>
            <a:ext cx="6208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you must k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vents that occur when a sperm contacts an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occurs in cleavage, gastrulation, and organo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structures derived from each germ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mmalian Ferti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rm binds to receptors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ona pellucid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extracellular matrix of eg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rosomal rea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perm releases hydrolytic enzymes to digest z.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ea Urchins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polarization of membra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revent other sperm from binding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st block to polyspe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rm + Egg F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rtical rea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perm + egg fusion triggers release of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tical granules fuse with z.p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z.p. hardens to for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rtilization envelop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low block to polyspe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 also triggers activation of the eg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tilization in mam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6" descr="47_05MammalFertilization-L.jpg"/>
          <p:cNvPicPr/>
          <p:nvPr/>
        </p:nvPicPr>
        <p:blipFill>
          <a:blip r:embed="rId1"/>
          <a:stretch/>
        </p:blipFill>
        <p:spPr>
          <a:xfrm>
            <a:off x="1447920" y="1295280"/>
            <a:ext cx="621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leavag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rapid mitotic cell di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417680"/>
            <a:ext cx="88390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Zygote cytoplasm partitioned into smaller cells 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lastomer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lid ball of cells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morul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lastul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hollow ball of cells) filled with fluid 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lastocoe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lastocy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huma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47_06_EchinodermCleavage-L.jpg"/>
          <p:cNvPicPr/>
          <p:nvPr/>
        </p:nvPicPr>
        <p:blipFill>
          <a:blip r:embed="rId1"/>
          <a:stretch/>
        </p:blipFill>
        <p:spPr>
          <a:xfrm>
            <a:off x="380880" y="3718080"/>
            <a:ext cx="85471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astr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rearrange cells to form 3-layered embryo w/primitive 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752480"/>
          <a:ext cx="8229600" cy="4240440"/>
        </p:xfrm>
        <a:graphic>
          <a:graphicData uri="http://schemas.openxmlformats.org/drawingml/2006/table">
            <a:tbl>
              <a:tblPr/>
              <a:tblGrid>
                <a:gridCol w="2590920"/>
                <a:gridCol w="2743200"/>
                <a:gridCol w="2895480"/>
              </a:tblGrid>
              <a:tr h="623160">
                <a:tc gridSpan="3">
                  <a:txBody>
                    <a:bodyPr lIns="90000" rIns="9000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One Stroke Script LET"/>
                        </a:rPr>
                        <a:t>Three Embryonic Germ Layers</a:t>
                      </a: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One Stroke Script LET"/>
                        </a:rPr>
                        <a:t>*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>
                  <a:txBody>
                    <a:bodyPr lIns="90000" rIns="9000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oder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oder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oder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120120">
                <a:tc>
                  <a:txBody>
                    <a:bodyPr lIns="90000" rIns="90000" tIns="44640" bIns="4464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n, nails, tee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s of 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vous system (</a:t>
                      </a:r>
                      <a:r>
                        <a:rPr b="0" lang="en-US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brain, spinal cord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eletal, muscular system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Notoch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retory, circulato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ve sy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, bone, musc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ithelial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f digestive, respiratory, excretory trac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, pancre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22"/>
          <p:cNvSpPr/>
          <p:nvPr/>
        </p:nvSpPr>
        <p:spPr>
          <a:xfrm>
            <a:off x="457200" y="618336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  For AP Test, you should know at least 2 derivatives of each germ l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6" descr="47_12_HumEmbryonDevelop-L.jpg"/>
          <p:cNvPicPr/>
          <p:nvPr/>
        </p:nvPicPr>
        <p:blipFill>
          <a:blip r:embed="rId1"/>
          <a:stretch/>
        </p:blipFill>
        <p:spPr>
          <a:xfrm>
            <a:off x="1295280" y="0"/>
            <a:ext cx="676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47_08GermLayerDeriv-L.jpg"/>
          <p:cNvPicPr/>
          <p:nvPr/>
        </p:nvPicPr>
        <p:blipFill>
          <a:blip r:embed="rId1"/>
          <a:stretch/>
        </p:blipFill>
        <p:spPr>
          <a:xfrm>
            <a:off x="762120" y="228600"/>
            <a:ext cx="7554960" cy="635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4:06:00Z</dcterms:created>
  <dc:creator>Chris Nancy Chou</dc:creator>
  <dc:description/>
  <dc:language>en-US</dc:language>
  <cp:lastModifiedBy>local</cp:lastModifiedBy>
  <dcterms:modified xsi:type="dcterms:W3CDTF">2012-04-05T18:49:41Z</dcterms:modified>
  <cp:revision>19</cp:revision>
  <dc:subject/>
  <dc:title>Chapter 47 Animal Development</dc:title>
</cp:coreProperties>
</file>